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082158"/>
        <c:axId val="43922567"/>
      </c:barChart>
      <c:catAx>
        <c:axId val="520821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22567"/>
        <c:crosses val="autoZero"/>
        <c:auto val="1"/>
        <c:lblAlgn val="ctr"/>
        <c:lblOffset val="100"/>
        <c:noMultiLvlLbl val="0"/>
      </c:catAx>
      <c:valAx>
        <c:axId val="439225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821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FD6C-02DE-4FCF-8395-B7840BC4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E82C-568A-47FF-A88E-E038B535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396E-0D76-4412-B55E-D68C68AC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8788-7944-44A0-818C-C0484C74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2D1E-34E8-435A-8C43-65626527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96A9-46D0-42B9-9725-F43E5766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6ADF-26B6-4645-A288-3178F73D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C436-E9A4-4EC0-A8C4-D9C3D25A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3712-39CD-4B4A-8443-6AA2A657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1138-112A-4CF7-AB26-37FABEAB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DFF9-5A44-4D07-B1C7-2A9AB9D9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AB63-43C6-4717-9029-EE114D86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8B84E-9C92-4576-9A19-863DC47B84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