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89699"/>
        <c:axId val="22837176"/>
      </c:barChart>
      <c:catAx>
        <c:axId val="20889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37176"/>
        <c:crosses val="autoZero"/>
        <c:auto val="1"/>
        <c:lblAlgn val="ctr"/>
        <c:lblOffset val="100"/>
        <c:noMultiLvlLbl val="0"/>
      </c:catAx>
      <c:valAx>
        <c:axId val="22837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89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850-957B-431C-9FC0-660347F7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AD9-069D-4EF9-9C7A-957746D4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3A0-84D5-4AD1-8924-F0B85D39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BC0-427F-4C87-88D4-10BF8CB8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0A0-A2C8-4893-8195-5AA6CFF0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3B5-8F51-4CEB-85D4-1DE9C24C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0494-2BCF-4F32-A573-65B2D72E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43D-C4EF-456F-8F2B-EAD8B28D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91C-16BC-4FBA-B2FA-61772182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EF3-E5FD-48D2-964A-E70CC5C2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AE2-0245-4924-9EBA-D0B8C97F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BA2-5D4B-4CB7-AD92-6721DDB6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17581-027B-4DA5-9AFB-914CE6D6DE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