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26893"/>
        <c:axId val="45161571"/>
      </c:barChart>
      <c:catAx>
        <c:axId val="71026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61571"/>
        <c:crosses val="autoZero"/>
        <c:auto val="1"/>
        <c:lblAlgn val="ctr"/>
        <c:lblOffset val="100"/>
        <c:noMultiLvlLbl val="0"/>
      </c:catAx>
      <c:valAx>
        <c:axId val="45161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26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ABF-0340-4F66-A5DB-9BDD2D47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A17-8604-4194-8514-4302D8AC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9CB-B89E-4CB4-AE77-BD051623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AD1-8FFB-4BA1-94BF-F2F8624E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051-5E67-4F48-B572-50415B28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110-988E-4F29-A353-566C7828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84E-D4CB-4FE1-A90D-AB7373C4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0C4-9CFD-44FB-9C9D-86CA9502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D28-1F65-4857-9F44-E2370864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D57-EABD-4959-BDE5-B7A5C6D9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87B-BBAE-49DF-BBE4-99568B0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EED-3186-49C0-85CA-4F0DF451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8FBE5-6CF9-478F-B81E-DC9720AECF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