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27988"/>
        <c:axId val="196915"/>
      </c:barChart>
      <c:catAx>
        <c:axId val="26227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915"/>
        <c:crosses val="autoZero"/>
        <c:auto val="1"/>
        <c:lblAlgn val="ctr"/>
        <c:lblOffset val="100"/>
        <c:noMultiLvlLbl val="0"/>
      </c:catAx>
      <c:valAx>
        <c:axId val="196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27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C72D-A13E-4CC9-92C1-5DC42F30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DC9-D9AE-4240-BEB9-88F0AA2F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A04-5B46-48D8-B10D-8F0010AA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A9F-B454-4CFF-A7A1-CA5CA727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CDC-5142-41C4-AFCC-79D73D69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C47-179B-4A29-AF9C-1B9B0ABF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1B7-EF60-4E7D-8714-BC3FE8A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1F0-D358-4C49-B5EC-C793E1C5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DFB-87DE-4484-A7C3-91BFFC92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36D6-A776-41A6-8425-4F08900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8A3F-13F7-4153-BB5E-6A508000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8F6-C340-40E3-8E57-DEB4414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D72BB-9778-4A3F-91CC-EF25A190B9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