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73268"/>
        <c:axId val="23706018"/>
      </c:barChart>
      <c:catAx>
        <c:axId val="43973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6018"/>
        <c:crosses val="autoZero"/>
        <c:auto val="1"/>
        <c:lblAlgn val="ctr"/>
        <c:lblOffset val="100"/>
        <c:noMultiLvlLbl val="0"/>
      </c:catAx>
      <c:valAx>
        <c:axId val="23706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3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BBA-A054-4E54-9A6B-AD3351B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3CE-21A3-46FB-B567-19A2F929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0D7-7D0E-4488-A833-063A3B3A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327-BD5F-46FF-9E55-DD36ADB1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F11-BD77-40DA-9794-73DA32C5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48C-F7B1-464D-8D00-1D389B5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616-EAA4-4290-B52A-C7796D49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552-41DA-4AF6-8F3C-54B5727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FEF-377F-4960-B8B9-8E1817DA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9D1-85EC-49CE-A6E7-5C8D5A5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93B-7DAA-456F-95F5-F2146E2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A69-2812-4B9F-B33E-B27A510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0E81C-ADC8-4992-8AF9-2C56A5223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