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613456"/>
        <c:axId val="52488553"/>
      </c:barChart>
      <c:catAx>
        <c:axId val="586134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488553"/>
        <c:crosses val="autoZero"/>
        <c:auto val="1"/>
        <c:lblAlgn val="ctr"/>
        <c:lblOffset val="100"/>
        <c:noMultiLvlLbl val="0"/>
      </c:catAx>
      <c:valAx>
        <c:axId val="524885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6134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BADF-E283-454F-8597-71300F49C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8B56-D940-4215-ACAE-F93990DFD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7975-E06A-40A0-ADB7-4F8B306B6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5CDB-EFAC-4CA7-BEB7-4F080618C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5E4D-C68B-45D4-BA78-59ED4C400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0894-334F-4AB3-922D-AAA4E6F19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D028-DE92-487B-AD2B-784E7E15A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44F3-4250-4987-9939-7BAF7D8BB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2E09-957D-4BC2-A3C4-02062192E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5A11-D7C4-4412-8591-D6F3B899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816E-946B-4D33-850A-50F05C86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2845-C32B-4D22-BDA7-57E5C691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BAE66A-2666-400B-8637-185788D54EC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