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2460"/>
        <c:axId val="15467871"/>
      </c:barChart>
      <c:catAx>
        <c:axId val="83282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7871"/>
        <c:crosses val="autoZero"/>
        <c:auto val="1"/>
        <c:lblAlgn val="ctr"/>
        <c:lblOffset val="100"/>
        <c:noMultiLvlLbl val="0"/>
      </c:catAx>
      <c:valAx>
        <c:axId val="15467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2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EE4-E99D-4782-A7FB-70658D35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EAE-F6EF-4571-AFEA-A75D04DE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A09-9D32-4F2B-971C-8139F77D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B68-407D-4E8E-BC63-2FA8F4C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10D-3BB1-483B-8F7B-70AE2FD9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8C2-3784-484C-B6C0-64E8877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879-6090-4DB9-97BC-440B8E2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389-19F4-4357-AD08-3E6BA51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443-254D-4574-A6AD-8DC11B0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C26-55C2-4123-860B-A0306B6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9AD-311F-4345-9C9E-DC8DDC0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6BE-DDA6-409E-AD33-60736C3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CF584-D75D-4E43-BAB3-AD83E9DB50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