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00608"/>
        <c:axId val="53412064"/>
      </c:barChart>
      <c:catAx>
        <c:axId val="58900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12064"/>
        <c:crosses val="autoZero"/>
        <c:auto val="1"/>
        <c:lblAlgn val="ctr"/>
        <c:lblOffset val="100"/>
        <c:noMultiLvlLbl val="0"/>
      </c:catAx>
      <c:valAx>
        <c:axId val="53412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00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F9C-B160-4592-BC10-C09DE524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04C-B8F2-47AF-AFDF-A614B282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D4F-8E41-44B8-987F-C0EE8C1D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D9C-0A72-46C7-B778-E9F0856D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FB6-D481-4DC9-8F32-B4CD99F5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40F-1274-490A-92ED-CE384602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0C9-7685-4AA6-8252-86D42EC9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C44-5744-447A-8F38-B86CF9C6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0BA-F5F0-4834-9596-F130562F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2B4-6276-47D8-9C6E-6659493A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BAD-7F2A-4D63-8A8C-C9771169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B4D-482B-49B1-BB32-BB3C7E63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1BF5B-CF8A-472C-AE41-1B49296603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