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267825"/>
        <c:axId val="99865119"/>
      </c:barChart>
      <c:catAx>
        <c:axId val="712678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65119"/>
        <c:crosses val="autoZero"/>
        <c:auto val="1"/>
        <c:lblAlgn val="ctr"/>
        <c:lblOffset val="100"/>
        <c:noMultiLvlLbl val="0"/>
      </c:catAx>
      <c:valAx>
        <c:axId val="998651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678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2EAF-89E5-4738-ADBE-873AA630E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0F38-9D90-44EE-BB21-72660F36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B515-14F4-4664-95C9-2BC20CE9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DFE3-B223-466E-8812-FB00BB66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7F59-F63A-43E8-8086-F0CF7E13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4A64-40C6-4414-AC67-A53A0930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509D-0553-4D5E-98DD-EBB7ACFD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68C7-2314-4197-B112-1A0DD091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58AD-FB4C-4DA4-A15C-28B03A01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B569-E27C-4CBC-9EA7-15044489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6CB6-1ACB-4E26-86EF-B1C76582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1E62-9DE3-40C8-BC4B-4BA244B6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810EB-5D7B-44E3-AE4A-76109558E0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