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66414"/>
        <c:axId val="37823194"/>
      </c:barChart>
      <c:catAx>
        <c:axId val="38866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23194"/>
        <c:crosses val="autoZero"/>
        <c:auto val="1"/>
        <c:lblAlgn val="ctr"/>
        <c:lblOffset val="100"/>
        <c:noMultiLvlLbl val="0"/>
      </c:catAx>
      <c:valAx>
        <c:axId val="37823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66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33B2-D9C9-4787-A973-060AA389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649-8A05-43DF-AE75-BE3EEC08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333-E1D9-4DF3-95A5-1F14EDFD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831-8F9A-477B-A1B4-491217D3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A84F-080E-4119-9FBA-BB675224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A24-21E4-4DAE-A8E7-C1D4F188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DF77-0939-4F3B-8AD9-C282080C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80A-E342-4838-BA64-74780C37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646-B575-4474-93A6-E87F91B7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1142-7554-48F6-8FFD-CC3C53B8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1C1-CFE2-4502-AA0E-A05D2783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A9AE-CDA2-4355-A694-B0303439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BB58C-F0F6-458F-AF6B-98214426B1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