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3401"/>
        <c:axId val="20466220"/>
      </c:barChart>
      <c:catAx>
        <c:axId val="3139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6220"/>
        <c:crosses val="autoZero"/>
        <c:auto val="1"/>
        <c:lblAlgn val="ctr"/>
        <c:lblOffset val="100"/>
        <c:noMultiLvlLbl val="0"/>
      </c:catAx>
      <c:valAx>
        <c:axId val="20466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D91-A7DF-448A-94C1-489CA3C9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DB7-4491-4216-9601-BACE37F2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8A4-1E61-43D8-B4E4-E6EA082B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759-5AA1-4614-B6C8-D47A3CFA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C10-C55A-420D-A8D9-FE9CCCA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122-F3BF-462E-9D1C-A34A762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87A-0B5F-4EB2-A4CF-EEDD0C8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AA7-7E6A-4E5B-BCE1-B79C18A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F06-D665-4C0B-A912-6C860E2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B93-F762-4D78-9308-38A090A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0FA-F32E-4C1A-8227-7FDCF62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C6E-EA0A-4901-BB72-1E9B772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77426-779A-4CC6-9424-46FF6B7545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