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01543"/>
        <c:axId val="54320763"/>
      </c:barChart>
      <c:catAx>
        <c:axId val="20601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20763"/>
        <c:crosses val="autoZero"/>
        <c:auto val="1"/>
        <c:lblAlgn val="ctr"/>
        <c:lblOffset val="100"/>
        <c:noMultiLvlLbl val="0"/>
      </c:catAx>
      <c:valAx>
        <c:axId val="54320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01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704-9B22-4230-A28E-89453C20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6F2-ADB8-4178-B706-71B866DA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500-358D-487F-90EC-14E2AECE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E8F-DE74-4FC7-9826-E42B9D88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3FB-E8FF-48C3-85F9-C15B4D62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818-6A5F-4B79-A90D-2D0923AA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872-B920-489D-A23A-8A3B2279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F7E-8BF6-4408-B2E3-62ADAD1D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99D-BB48-4C0C-9F65-1CCF5267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4FA-EA8A-4D04-9715-6D0BB70C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0F0-BD0D-4D8A-89DB-6A3CDFFD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B7A-4A32-4138-BAE5-8E7A7288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D8DC8-0695-4ED9-8C3B-E17A4907CE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