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21028"/>
        <c:axId val="41423745"/>
      </c:barChart>
      <c:catAx>
        <c:axId val="90721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23745"/>
        <c:crosses val="autoZero"/>
        <c:auto val="1"/>
        <c:lblAlgn val="ctr"/>
        <c:lblOffset val="100"/>
        <c:noMultiLvlLbl val="0"/>
      </c:catAx>
      <c:valAx>
        <c:axId val="41423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21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864-DF99-43C5-B410-7B862C06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AD4-C382-475A-BFFD-1D59D30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CE5-C119-4802-B16F-BDD54C13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1EB-C3DB-4931-B110-684F885F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017-1E54-449A-A3E0-EF15F5CE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5B3-AB22-4336-981A-002B87C4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EA5-7F76-4485-BAEF-73F562AF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DA7-69B4-44EB-8BC9-855804FF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097-5531-44FF-9C98-6847BAAD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FF6-931F-4DEA-8B23-A8336A05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3EB-4CF7-416A-8EA2-CB561583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BB0-E640-4562-8F2B-B666FCA8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815A2-09DA-40AA-BFEF-83A45BE1BB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