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8176"/>
        <c:axId val="10507019"/>
      </c:barChart>
      <c:catAx>
        <c:axId val="5118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07019"/>
        <c:crosses val="autoZero"/>
        <c:auto val="1"/>
        <c:lblAlgn val="ctr"/>
        <c:lblOffset val="100"/>
        <c:noMultiLvlLbl val="0"/>
      </c:catAx>
      <c:valAx>
        <c:axId val="10507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8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570-5372-4FB3-9D4A-29803CEE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077-D76D-4C68-9F2C-68627D73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EF1-687B-4342-95C9-3A018114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0C8-D325-4585-85CA-0796C32D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4068-5F4B-40E5-AB8E-10921505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A4A-0CFF-4C06-BEC3-B0B701DA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9F0-E8D1-4A6F-9199-D00278B5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053-A3FD-4460-9D1E-E4944FAC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4A4-375D-444C-8125-2425B912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FC52-965D-4FF8-AAC7-143B9453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483-DB14-4ADE-A8BD-19354645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FDA9-E820-407E-8F1C-A793951B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38B78-0819-4737-9D32-8F52844243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