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43262"/>
        <c:axId val="18601018"/>
      </c:barChart>
      <c:catAx>
        <c:axId val="93343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01018"/>
        <c:crosses val="autoZero"/>
        <c:auto val="1"/>
        <c:lblAlgn val="ctr"/>
        <c:lblOffset val="100"/>
        <c:noMultiLvlLbl val="0"/>
      </c:catAx>
      <c:valAx>
        <c:axId val="18601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43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F44-915C-4DC1-A3B3-AED3FBBA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AF4-3E12-43F1-AF3D-18A32642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A4E-AB13-476E-9C03-03012375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74F-BB55-4D6F-9C2B-33FA5C1F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D09-92B5-43D7-B933-E3D46FFE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23D-C83E-4A38-B4FA-25E96415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5C0-CE8C-4490-AFCC-EFEBEA0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DFF-4A1C-4476-A100-EB672F82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CB2-9175-4214-8225-CB0072C7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71F-49ED-4588-B16E-1C96A27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46B-3B99-415D-A407-C1DFCD2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E36-1AFF-44C8-A3D2-F69E31A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AD75D-2C47-469B-B268-C307BBACE7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