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3745"/>
        <c:axId val="7662766"/>
      </c:barChart>
      <c:catAx>
        <c:axId val="91733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2766"/>
        <c:crosses val="autoZero"/>
        <c:auto val="1"/>
        <c:lblAlgn val="ctr"/>
        <c:lblOffset val="100"/>
        <c:noMultiLvlLbl val="0"/>
      </c:catAx>
      <c:valAx>
        <c:axId val="7662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3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716-2729-4738-8747-A92D017D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E01-B5CD-4C9D-8B84-F3C1024F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F48-7A11-468F-9945-2B9F0A6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9F0-6236-4F25-955E-43BB0F9F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45E-B310-47AE-B80A-DE2E839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DEB-051F-4D4C-A828-884490D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1F-C94E-43CC-8A53-C00F9415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CF4-5BF7-48EE-B9D2-3DBB55C9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0AF-4DC8-4665-9A6A-36F7E11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30A-3839-429E-8536-2AF386A7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0B3-091F-47E3-AB29-616C08B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5E2-9576-4E95-98F3-643CA2B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605C-0A73-47AD-95CA-6728600B8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