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67321"/>
        <c:axId val="40571237"/>
      </c:barChart>
      <c:catAx>
        <c:axId val="19667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71237"/>
        <c:crosses val="autoZero"/>
        <c:auto val="1"/>
        <c:lblAlgn val="ctr"/>
        <c:lblOffset val="100"/>
        <c:noMultiLvlLbl val="0"/>
      </c:catAx>
      <c:valAx>
        <c:axId val="405712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67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9923-1A74-496E-86BB-F2F1B46F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6059-2CB5-4143-B343-FDA99A01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FB52-25E4-4FA1-96E5-B7293C1C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DBC-CAD4-4600-90DF-369B36F0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7C3-0193-42AC-A633-B8091F37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370-8B08-44D1-BBCD-C5373557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0E6E-E51B-4FC3-8159-F335CB7D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47A-42F9-4FDB-9ED3-5C279469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F3CE-CF14-4F36-940D-3B26D156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39F-2C5C-4CC2-8904-3E6835F8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0DA-471D-4F43-B665-F908E82D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C4B6-FB7E-47D6-BA8A-1D58C918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515B9-591B-4548-BE74-867DF46E48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