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759"/>
        <c:axId val="26533206"/>
      </c:barChart>
      <c:catAx>
        <c:axId val="682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33206"/>
        <c:crosses val="autoZero"/>
        <c:auto val="1"/>
        <c:lblAlgn val="ctr"/>
        <c:lblOffset val="100"/>
        <c:noMultiLvlLbl val="0"/>
      </c:catAx>
      <c:valAx>
        <c:axId val="26533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A12-914F-4403-9FC3-B98F2C25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F86-4511-4F3A-9FE6-921D843B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FD3-C102-4443-9E7C-029D2860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E77-BC4C-468A-BDEC-697F50E0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D18-E675-42F3-9B09-F9A8118E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032-DDA7-4EFE-AA46-8378A809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CAA-0C24-445E-885C-1B263B71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129-3009-479A-9B33-252C383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43D-3925-4A14-8C9D-7049413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47A-1EF0-44F9-9E15-E335322C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459-980A-48DF-AFA8-A1D5130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0D1-E7DC-4671-B243-DFF7AB1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D998A-45F4-483E-9CCA-F4652FDBB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