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08569"/>
        <c:axId val="31042369"/>
      </c:barChart>
      <c:catAx>
        <c:axId val="80408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42369"/>
        <c:crosses val="autoZero"/>
        <c:auto val="1"/>
        <c:lblAlgn val="ctr"/>
        <c:lblOffset val="100"/>
        <c:noMultiLvlLbl val="0"/>
      </c:catAx>
      <c:valAx>
        <c:axId val="31042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08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E67-9453-4200-8B9F-224B4AA1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2F9-7BD6-48D3-BA02-A96FD415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7DC-D415-4F28-9D2E-AAECA523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34C-AFC7-4DDA-B780-AB332E48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661-8A19-4938-88B7-45614E5F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509-530E-45ED-8D43-BB57286E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504-A9B1-4133-8B95-BCA86759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9F9-765E-4104-99BD-6B0127D2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0F0-23DB-4328-B283-D9C16574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306-5F19-4F94-93E2-B589C0DF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65A-E5E2-49D3-8DE4-8A3678DB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E15-FA4E-474C-A6D5-4F3BB57E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D1554-6010-40D9-89CB-8F28E7EA21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