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408"/>
        <c:axId val="15981256"/>
      </c:barChart>
      <c:catAx>
        <c:axId val="302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81256"/>
        <c:crosses val="autoZero"/>
        <c:auto val="1"/>
        <c:lblAlgn val="ctr"/>
        <c:lblOffset val="100"/>
        <c:noMultiLvlLbl val="0"/>
      </c:catAx>
      <c:valAx>
        <c:axId val="15981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BD5-094B-4E9C-B549-DCACC85A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024-64A0-4A33-8984-5CFDFB2E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CB7-7F7F-485D-898E-5EA056D8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A5B-B8BE-4ABA-ACF4-84A47F77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D6F-8493-4799-9075-FC1E052B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660-A7DC-442D-A53A-9E891B3D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B73-250B-4C8A-A153-924402BD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BE7-F8E0-437F-865F-C3E83935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E6D-7396-41B1-85B3-D154C961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6EC-4D31-4BD6-880C-CD67AD9E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02E-CC81-4134-97E7-BDF7CD3C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A75-7B10-4391-8CBC-7E409F67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F4CD4-BACB-4C26-B179-CD83E6F4E7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