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28473"/>
        <c:axId val="47566463"/>
      </c:barChart>
      <c:catAx>
        <c:axId val="38628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66463"/>
        <c:crosses val="autoZero"/>
        <c:auto val="1"/>
        <c:lblAlgn val="ctr"/>
        <c:lblOffset val="100"/>
        <c:noMultiLvlLbl val="0"/>
      </c:catAx>
      <c:valAx>
        <c:axId val="47566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28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620-D1B0-4474-9C9B-E8A6AA33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22A-2198-4B56-8E9C-77B4EE82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E99-06D6-4531-A563-796C4C85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6F1-DFB7-4D7B-8FCE-D272FB7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A6E-60B2-4B3C-BD94-B3BB407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E83-FBEE-4B90-9F3D-3B20D313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DC1-3EDD-4C14-AEF9-5C77BE35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363-F2B8-4E77-9D12-89882B0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4F2-BFF5-4ECB-8028-7767077D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755-0E9F-4CA4-A316-F24BA40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47A-5F3E-4F35-967D-865B03F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6CC-5541-4452-9B5A-3447D9B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7D907-5B67-4C58-930E-723D427CBE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