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87565"/>
        <c:axId val="78772689"/>
      </c:barChart>
      <c:catAx>
        <c:axId val="98687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72689"/>
        <c:crosses val="autoZero"/>
        <c:auto val="1"/>
        <c:lblAlgn val="ctr"/>
        <c:lblOffset val="100"/>
        <c:noMultiLvlLbl val="0"/>
      </c:catAx>
      <c:valAx>
        <c:axId val="78772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87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1F4-A243-4680-B6CA-451B13FD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8EF-74D0-4DC4-84A1-36E78ED1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58A-25EF-4936-9572-D5D27E01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1C9-9314-48BB-91EA-2D7F5353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9FD-FDB5-4DE8-B069-4AC34139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016-8DDD-4C57-966B-D2E97A1C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C06-987C-46A0-A1A9-468B139F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56C-EA08-48A3-A5C8-3E800760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83E-2083-42EC-98A9-FF05102B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E34-8435-4ED9-97E0-AFEA6C1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9AE-E247-4FD9-8D5E-27E0E8D8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814-8195-4E8A-994B-B95442E0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4283D-C5F7-4996-8231-601752C349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