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90669"/>
        <c:axId val="35529013"/>
      </c:barChart>
      <c:catAx>
        <c:axId val="86490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29013"/>
        <c:crosses val="autoZero"/>
        <c:auto val="1"/>
        <c:lblAlgn val="ctr"/>
        <c:lblOffset val="100"/>
        <c:noMultiLvlLbl val="0"/>
      </c:catAx>
      <c:valAx>
        <c:axId val="35529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90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EAA-BD4E-4C5C-A3D0-2C6E2CA2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7DF-A7D6-4A88-944C-E300F840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577-9152-40C1-B24D-8D8C65B1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4A6-CEE8-433B-9CBB-94482C44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DF8-DD34-4ABF-B850-C7134FA1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BED-E758-444F-85F4-B7CB405C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3CC-03D4-4CB9-B49A-DC394D5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E59-F105-4EED-A62D-59A5126F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96D-8074-4276-9AFD-54C5E5A9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932-AE08-4F9D-A9DB-C79899D3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030-8CDE-45A2-B782-EABF1070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1C5-5D42-471A-9996-40CB4B8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9293C-285F-4D14-AEB4-C504D132E1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