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36305"/>
        <c:axId val="48125664"/>
      </c:barChart>
      <c:catAx>
        <c:axId val="3583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5664"/>
        <c:crosses val="autoZero"/>
        <c:auto val="1"/>
        <c:lblAlgn val="ctr"/>
        <c:lblOffset val="100"/>
        <c:noMultiLvlLbl val="0"/>
      </c:catAx>
      <c:valAx>
        <c:axId val="48125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3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395-6CF6-4955-B0EA-00D3D265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58B-C5AC-4A11-9AC5-7410A9E5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7A0-AD9F-420A-8175-5670AC8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4F5-012A-43C6-95AF-57CBB846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C1F-E600-4EA3-80C7-3E40DCD5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6D2-3CDA-43E3-8F99-539A384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BDF-37E2-4ED9-A8B3-20F8D35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DA9-5A1E-4307-9F51-68F45B7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6F3-6028-4A5F-BC2F-13A8EFF9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A84-7CE3-4FA9-9B3A-2EBC901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C0C-BA72-43D4-A14C-75209AB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953-912C-42D7-9ED8-7B3987F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21466-0512-45BD-9DD8-CC45C4B7FF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