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88999"/>
        <c:axId val="46978615"/>
      </c:barChart>
      <c:catAx>
        <c:axId val="33988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78615"/>
        <c:crosses val="autoZero"/>
        <c:auto val="1"/>
        <c:lblAlgn val="ctr"/>
        <c:lblOffset val="100"/>
        <c:noMultiLvlLbl val="0"/>
      </c:catAx>
      <c:valAx>
        <c:axId val="46978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88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9F0-D090-43D5-A6B8-A7CE7E3C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655-09FF-4138-B6C6-FA3095E4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50A-D9AC-4AD5-957F-B6B9B4B9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21C-3A5A-400A-832E-C20AA2D3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438-E206-43DC-96DF-177D4D8F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76F-47F2-4DCB-84D0-83384D72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E56-E324-4B2E-AE0C-437307B1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C45-1754-40F6-889F-71977936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FAC-CBE2-43F3-BEC2-E1AB7E77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64D-A83F-4954-92F4-3879A558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4EE-B9E6-4163-A2D1-BD26F523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C0E-A31D-448A-9C93-72F041B7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978B6-E03B-4309-8AEC-B2B8BFF88C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