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733271"/>
        <c:axId val="74526357"/>
      </c:barChart>
      <c:catAx>
        <c:axId val="437332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526357"/>
        <c:crosses val="autoZero"/>
        <c:auto val="1"/>
        <c:lblAlgn val="ctr"/>
        <c:lblOffset val="100"/>
        <c:noMultiLvlLbl val="0"/>
      </c:catAx>
      <c:valAx>
        <c:axId val="745263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332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B704-89DF-4970-B0B9-0B8E580F8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D733-E85F-4139-B1F1-6B3FF580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2679-8CF6-43DF-AB50-286B4BF5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A59E-CC7C-4D32-899D-8BCB64058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1B6A-5DAB-46FC-A80E-0394838B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20B8-DEB0-4377-950A-C4E1E9D1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E7DE-C3AC-482C-9C78-18D77D39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B659-119D-42F2-9B61-3F86103D1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9056-76BD-4469-8BDD-852C62CD1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338C-792D-49E3-BABF-BB5A075A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C816-1C67-49EC-95E9-C778D4566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6908-1843-4512-80D4-B20EF4CE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3795C-A743-4FB1-891F-AAB4AD3A5EF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