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1444"/>
        <c:axId val="2968885"/>
      </c:barChart>
      <c:catAx>
        <c:axId val="4144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68885"/>
        <c:crosses val="autoZero"/>
        <c:auto val="1"/>
        <c:lblAlgn val="ctr"/>
        <c:lblOffset val="100"/>
        <c:noMultiLvlLbl val="0"/>
      </c:catAx>
      <c:valAx>
        <c:axId val="296888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44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127A4-9D4E-4D32-A25D-5748197CA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17D37-9097-46CC-A2D3-7A9651539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F58B2-5CB6-4C49-9463-EE5A90BAB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9F8A0-ACA6-46E5-8C07-D9BB70D24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905A8-4EB9-4D7B-8107-7BB95E0A8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D8731-4858-4D46-96FD-BF25E8A95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0C00F-A868-4C12-B18D-BDDCCC322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92386-4794-4E3F-A179-B62D7CE02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2BA3A-DAC6-4164-B52B-EE97C11F2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5E2AE-4856-42E9-A97F-2E7DC080F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E29F1-D6B5-4766-8332-2B877360D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E839D-EC50-4CC0-9A41-EC1BFEF0B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0C5772-DC48-4145-BD46-975FCC239B7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