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52070"/>
        <c:axId val="24625887"/>
      </c:barChart>
      <c:catAx>
        <c:axId val="79052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25887"/>
        <c:crosses val="autoZero"/>
        <c:auto val="1"/>
        <c:lblAlgn val="ctr"/>
        <c:lblOffset val="100"/>
        <c:noMultiLvlLbl val="0"/>
      </c:catAx>
      <c:valAx>
        <c:axId val="24625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52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8A9-9F6C-42D3-BF67-4960ED1F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177-B987-4AA4-876D-5D4DF28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E98-0D23-4158-AB08-9095536A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42E-3473-41C2-8C3D-74845F22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6FC-DD83-4352-8754-52832D16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3F7-BD51-4B21-BFF9-7C887B81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AD5-9633-48D5-979F-B54F4441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157-2CC2-415C-8870-F7D91BE7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E31-FFDF-4A9F-A460-F00F1491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086-63F3-42C2-AF8F-D86C3E1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B19-E60C-45B2-A7D1-D662F663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824-A113-4C2D-8C22-B54FDA9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65F1B-38E0-4460-AD50-A010922676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