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19087"/>
        <c:axId val="66401793"/>
      </c:barChart>
      <c:catAx>
        <c:axId val="40519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01793"/>
        <c:crosses val="autoZero"/>
        <c:auto val="1"/>
        <c:lblAlgn val="ctr"/>
        <c:lblOffset val="100"/>
        <c:noMultiLvlLbl val="0"/>
      </c:catAx>
      <c:valAx>
        <c:axId val="66401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19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BD8-9E90-419E-8D50-FFA0B35A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77B-04EC-45B1-8E7C-FBF4E6E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1F4-EA80-4F7B-9DCF-9E8429DD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139-BAF1-4920-BAFC-FCC1411F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152-65E1-494E-928C-DAC97406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B2A-81A0-4424-B7D6-ECEFB044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4DC-C6B2-4EF3-9CCE-C4F545DF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DE6-466D-484B-9CB8-790995B8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C90-68D9-4751-8D18-5857C8A7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1BA-AB55-4146-A70D-E148DE3D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788-9690-405E-B39A-3485109F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D08-15A9-44BE-82D7-3EF0C716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BE110-DD9F-4FE4-88C5-116D85678E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