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09600"/>
        <c:axId val="24607673"/>
      </c:barChart>
      <c:catAx>
        <c:axId val="22109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07673"/>
        <c:crosses val="autoZero"/>
        <c:auto val="1"/>
        <c:lblAlgn val="ctr"/>
        <c:lblOffset val="100"/>
        <c:noMultiLvlLbl val="0"/>
      </c:catAx>
      <c:valAx>
        <c:axId val="24607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09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364-F9D7-4DA8-BCB7-36079A69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EC1-1576-49C4-AC00-6ECBB14B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584-192F-43FD-A100-5ED17440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5AE-CCBA-4B42-A61E-69B21BEA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6C0-74E4-4FE5-A261-51976CA3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914-A888-4D58-88B7-9194CA69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68F-DD23-4525-8EF7-8E6394E7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421-C9A6-49A4-AB12-A4F9B4D5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255-44BB-48BA-BCEC-10947F66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44B-B1D4-4B4B-9D2A-25CEFBA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15B-4FD3-49B0-9E73-6A1C9DF3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792-907E-432B-A5C7-583F0C9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5C611-4C0E-42EA-9164-373499B53D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