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526197"/>
        <c:axId val="1266969"/>
      </c:barChart>
      <c:catAx>
        <c:axId val="345261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66969"/>
        <c:crosses val="autoZero"/>
        <c:auto val="1"/>
        <c:lblAlgn val="ctr"/>
        <c:lblOffset val="100"/>
        <c:noMultiLvlLbl val="0"/>
      </c:catAx>
      <c:valAx>
        <c:axId val="12669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5261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CC09-5260-48B5-9A7F-DAE495250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CC18-949E-4D81-8DBD-547CEF2A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E57D-9083-4149-B5B5-963D81DAE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5F50-5050-477E-98DC-8022B3001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7A36-7D2E-4374-9E69-ADBB5F04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0E10-EDB4-4D7A-B0E9-F0118592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867E-3865-4B3D-9F4C-BBDF737C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CF3C-3E4D-4DE6-BC26-662358EB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2FC0-0F58-4322-A5D4-3AC22691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F0BA-F668-4561-BDD1-B56B39D3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F3C7-98A8-4575-9153-6D2661DB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125A-CECA-4443-8049-10A2E18E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67E4A0-9CC5-4048-A4AC-36E16F5B94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