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93457"/>
        <c:axId val="34775137"/>
      </c:barChart>
      <c:catAx>
        <c:axId val="75593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75137"/>
        <c:crosses val="autoZero"/>
        <c:auto val="1"/>
        <c:lblAlgn val="ctr"/>
        <c:lblOffset val="100"/>
        <c:noMultiLvlLbl val="0"/>
      </c:catAx>
      <c:valAx>
        <c:axId val="34775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93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192-39D6-48F0-82BA-3A346D0D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C89-ED02-4FCB-8957-A60DE136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5F36-BDBF-4D8D-ADDE-1CEE496D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24E-697B-4626-8172-5F706B4B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B7A-88CF-44BC-8B70-96835E10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48EC-1078-4AA5-A397-85A30F1B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38C-874C-488C-A9EE-D17770BC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F39-ACAA-4B56-BA65-F1C50376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120-C76C-40D5-8B69-5621C09E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847-0FB4-4206-81BA-ACED1CB8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FA5B-028E-4B5D-AE5B-13FB8261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2DD-C6DA-41D2-99B2-A1B8E8E5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F6202-B6B3-48B4-99D9-9CFAA56D47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