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03716"/>
        <c:axId val="98743707"/>
      </c:barChart>
      <c:catAx>
        <c:axId val="80903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3707"/>
        <c:crosses val="autoZero"/>
        <c:auto val="1"/>
        <c:lblAlgn val="ctr"/>
        <c:lblOffset val="100"/>
        <c:noMultiLvlLbl val="0"/>
      </c:catAx>
      <c:valAx>
        <c:axId val="98743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03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3F9-18B0-4C0C-94A7-BD569EC7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921-93B0-44B5-B288-C3754A45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0DB-0B39-4891-B0F1-5DC1376A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8C8-ACB2-42DB-AA8B-53E2597B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D52-00E3-4B78-BEC1-2F69C286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0C4-17A6-4D5B-AF2C-0E2B0F21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1CC-0CD4-4BEA-9F3C-AEC1F766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19D-7674-419D-BB6D-413A12C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7C1-27EE-4559-8E2C-005D0215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375-8879-4ABF-A57C-E13B3B2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516-7490-423B-913C-A0EB94C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5EE-A8BB-4669-A052-6035B87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2381F-A84E-47F7-ACA3-590D915E1C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