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961334"/>
        <c:axId val="82070489"/>
      </c:barChart>
      <c:catAx>
        <c:axId val="169613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070489"/>
        <c:crosses val="autoZero"/>
        <c:auto val="1"/>
        <c:lblAlgn val="ctr"/>
        <c:lblOffset val="100"/>
        <c:noMultiLvlLbl val="0"/>
      </c:catAx>
      <c:valAx>
        <c:axId val="820704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613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B6C9-5D1A-4410-9E9F-207B577A9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3872-5625-489E-AEA0-2667B7D3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DFFC-5D55-468C-990B-4EC14D14F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0F1E-4331-4E7D-9A35-C726482AC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9B89-2CEC-40A2-B4E0-358B0309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BF5E-363E-406B-8840-015FAA5A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5F25-2CC0-4452-8D78-6CB07911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40A9-DAE3-40B2-A2C3-2819F591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D6F6-4A67-4E8D-89B6-CDCA19EC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6236-B975-4559-9A83-391BB405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89EF-CF40-4564-9A05-30D3322C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353A-99B9-407A-9FDC-15222E29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5FF4F4-D483-45E8-9B7D-98A1BCD13D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