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50171"/>
        <c:axId val="74995556"/>
      </c:barChart>
      <c:catAx>
        <c:axId val="11650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5556"/>
        <c:crosses val="autoZero"/>
        <c:auto val="1"/>
        <c:lblAlgn val="ctr"/>
        <c:lblOffset val="100"/>
        <c:noMultiLvlLbl val="0"/>
      </c:catAx>
      <c:valAx>
        <c:axId val="74995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0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D2F-99F4-4808-AFF9-15CB858D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E32-322F-4BE4-9483-F584472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3D4-766F-4EFA-9A8B-EA5FAB3C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6AB-7243-48D6-A051-043C9E07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AAC-931D-44A1-8370-3A2DF422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297-6B41-41AD-9586-DF7D583A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0B6-15D6-4014-BA26-D5B6655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033-9E29-4A07-B35B-78A863CD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217-B9F8-464A-9F11-CCFEF44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419-2E5C-4590-B784-B48F997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442-F6B6-43CB-9F91-C054EF1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78C-D691-4298-8339-B5E1EE3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C00AC-DB72-44B2-BF7B-76D794C92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