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4959"/>
        <c:axId val="83948325"/>
      </c:barChart>
      <c:catAx>
        <c:axId val="8934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48325"/>
        <c:crosses val="autoZero"/>
        <c:auto val="1"/>
        <c:lblAlgn val="ctr"/>
        <c:lblOffset val="100"/>
        <c:noMultiLvlLbl val="0"/>
      </c:catAx>
      <c:valAx>
        <c:axId val="83948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4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77F-6A77-4CB7-8560-ACBE9484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35A-6D6A-4587-93D3-CCFD329C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7DC-6212-4D41-B317-93C208C1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3B1-9604-4DC9-8D2D-24C360EF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D49-39A4-41D3-87C4-474B5E8A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FDE-9293-4A95-93AE-91DAD33C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F90-6314-4214-A152-4113CB00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835-7B47-4E3F-9DDA-9373DE8A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C21-7CC8-4C84-BE1F-AA3BD5F4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C46-98A8-4CDC-AD07-AF50DBE4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2D4-C32C-4B6F-961F-60F6B398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EB0-90E6-4DA4-B99A-1EB07AEC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2AE03-3181-4980-806D-E48DB821C2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