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78718"/>
        <c:axId val="73546514"/>
      </c:barChart>
      <c:catAx>
        <c:axId val="672787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46514"/>
        <c:crosses val="autoZero"/>
        <c:auto val="1"/>
        <c:lblAlgn val="ctr"/>
        <c:lblOffset val="100"/>
        <c:noMultiLvlLbl val="0"/>
      </c:catAx>
      <c:valAx>
        <c:axId val="73546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787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58A-4273-48BD-AC4C-A330C8BB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9E5-EF13-49D1-A13A-AEB25C08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CCA-B288-497B-A1AA-145414DD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1CB-E99E-46E5-BD9F-7D2C0A85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405-B72A-46ED-87EE-88941A85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3122-AFE7-486D-9B31-F7B59656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51D-A035-4018-B289-63D9DA7E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36B-13EB-42C6-BAA0-DCA2CDD3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384-6C50-4600-868D-BF07C46A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4FBF-EC99-4F5F-AB87-6FACC913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65D-240D-42E4-B461-7FB96BB9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06E1-C9C7-41F1-91F2-24B2573B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61B44-74EA-4717-897D-81FA61E888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