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5945"/>
        <c:axId val="19572861"/>
      </c:barChart>
      <c:catAx>
        <c:axId val="2125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72861"/>
        <c:crosses val="autoZero"/>
        <c:auto val="1"/>
        <c:lblAlgn val="ctr"/>
        <c:lblOffset val="100"/>
        <c:noMultiLvlLbl val="0"/>
      </c:catAx>
      <c:valAx>
        <c:axId val="19572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5A1-E1DB-4EA3-97D9-0CCCA9A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B89-E096-4198-8711-AADDAD5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66B-1AAD-4A24-A60C-D3CC3069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F99-5303-44CE-9AED-059DEE08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524-E6EC-4237-BB7B-921413BA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5AE-F10C-4614-9A0B-041B8251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C67-FE34-47AA-93A0-84659BF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A30-9A6B-471A-8F04-E49A971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935-8908-4718-BBEE-F4A9248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4B8-6CE5-499F-95BC-4093AC5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56F-3A16-413F-9A16-5B3185D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B54-4515-4C3C-BD8C-7419F347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D3497-14D3-4CFE-934A-42D03F714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