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40952"/>
        <c:axId val="87693305"/>
      </c:barChart>
      <c:catAx>
        <c:axId val="11340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93305"/>
        <c:crosses val="autoZero"/>
        <c:auto val="1"/>
        <c:lblAlgn val="ctr"/>
        <c:lblOffset val="100"/>
        <c:noMultiLvlLbl val="0"/>
      </c:catAx>
      <c:valAx>
        <c:axId val="87693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40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11F-A64B-4FE6-AAD4-AEB9F06F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66F-3F80-4C18-BF21-44C7522D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659-2807-4086-8C2F-203A82A3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20E-C20C-48FC-BF11-004A7462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241-33DB-4AA4-BB72-28B915E9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9E4-1D9C-4BD6-9144-6DF2DC74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36C-E2C2-4AAA-B2DC-109530B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85E-014D-4D4F-94BF-12EB2150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E00-656E-473F-B312-1858FFD1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D3D-C938-4DAF-AC3D-DF8196DA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7A3-75CC-4BBE-9EEF-4CE5974A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36BA-F7A1-449F-B5DF-BC5C3F61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8E7B5-B324-4118-9D43-F0D2BF302D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