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04870"/>
        <c:axId val="51375294"/>
      </c:barChart>
      <c:catAx>
        <c:axId val="29104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75294"/>
        <c:crosses val="autoZero"/>
        <c:auto val="1"/>
        <c:lblAlgn val="ctr"/>
        <c:lblOffset val="100"/>
        <c:noMultiLvlLbl val="0"/>
      </c:catAx>
      <c:valAx>
        <c:axId val="51375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4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D6F-F102-4AE8-A80D-7D1D3BA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189-57AF-443A-B5C3-9B2C45C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40D-6614-42F6-AD60-5EC0457A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006-5923-481E-98DA-CC7B00F8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5AF-648A-4D61-9232-400053A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DD0-3BFB-4D7A-A2B6-40CF11A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70E-4BEC-48BD-80CD-5CF1F92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9FC-3AE0-4FF3-99E1-4049E1F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4A0-2D39-432D-A504-BF23F3F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D79-56DA-4DBA-AF81-539113E2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ECC-ED90-4EAC-AA5B-D9DC4A0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BE1-8BDF-495B-B355-51F241F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8C8C-E22E-4204-8737-48EA698C56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