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08"/>
        <c:axId val="75641973"/>
      </c:barChart>
      <c:catAx>
        <c:axId val="64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41973"/>
        <c:crosses val="autoZero"/>
        <c:auto val="1"/>
        <c:lblAlgn val="ctr"/>
        <c:lblOffset val="100"/>
        <c:noMultiLvlLbl val="0"/>
      </c:catAx>
      <c:valAx>
        <c:axId val="75641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0E0-3E09-48AC-88F3-2E2794EB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509-E904-4DB9-86D2-870BAB72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03E-EA80-4203-A04E-2A45BBC0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E16-DFF4-4678-846F-1DF33B5A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9D0-72C4-4E13-8DA4-0A0CFFE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324-9BB4-4AE6-A842-57154107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3B6-A935-49A4-9EB4-A1C1DE97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57D-11E3-4540-9082-6CBA3B91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7E9-6B78-4704-BDB1-30458322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A30-7BB0-47C6-9AB2-F91F98F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1EF-FAEE-461B-B55A-1FEA2DF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657-2AAD-4E90-AC36-0E093A4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64EB-1E63-4787-B163-F8452818E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