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293128"/>
        <c:axId val="36504816"/>
      </c:barChart>
      <c:catAx>
        <c:axId val="60293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4816"/>
        <c:crosses val="autoZero"/>
        <c:auto val="1"/>
        <c:lblAlgn val="ctr"/>
        <c:lblOffset val="100"/>
        <c:noMultiLvlLbl val="0"/>
      </c:catAx>
      <c:valAx>
        <c:axId val="365048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93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CFD-FFAF-48FB-8752-505C9796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DC0-F9C6-45D8-BF98-2A93ECF3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417-9F84-4876-B111-77B97AD6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F69-DECF-449E-80DB-BCC67BC5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F42-8FDB-4312-B320-7CD74E1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E6D-ACBB-47B8-A9F2-C0ACC4E7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5CB-243C-4CDC-A4CC-CA1FD408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2CA-CF0B-4076-8B76-A7F2243A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1F0C-D082-44F1-95B8-C98DA78C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57B-C5E6-40F4-956E-EC49534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C0C-C26D-4310-9379-C2606D5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E09-4950-4A91-A8C8-197CC640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1A1EA-7060-499A-85D3-08FDC71A1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