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55770"/>
        <c:axId val="14026606"/>
      </c:barChart>
      <c:catAx>
        <c:axId val="59455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26606"/>
        <c:crosses val="autoZero"/>
        <c:auto val="1"/>
        <c:lblAlgn val="ctr"/>
        <c:lblOffset val="100"/>
        <c:noMultiLvlLbl val="0"/>
      </c:catAx>
      <c:valAx>
        <c:axId val="140266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55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A16-8206-4D81-B255-8D629146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BB2-4C5F-4ADB-8E6C-CACA49F2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DC8-64FF-4402-B975-4D35455F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99D9-DC22-4F62-ACAA-A273DA7A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3CE-42E8-48DF-98AF-BA8AF21D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D38D-6F7E-44D1-93B2-DC2AF28A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395-C9CB-4087-9C36-CCBAC17D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4F5-0AD4-4E43-BFE9-C9057860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0FC-57A5-45C7-925B-74BE35B2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57E-5277-49AA-82E5-19D9D487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8CBE-D0E7-43C7-BBFC-E5263484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928-4585-46A4-81D1-EFA6598B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62241-52D4-4356-9F7F-D584250E8B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