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65787"/>
        <c:axId val="58408106"/>
      </c:barChart>
      <c:catAx>
        <c:axId val="68765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08106"/>
        <c:crosses val="autoZero"/>
        <c:auto val="1"/>
        <c:lblAlgn val="ctr"/>
        <c:lblOffset val="100"/>
        <c:noMultiLvlLbl val="0"/>
      </c:catAx>
      <c:valAx>
        <c:axId val="58408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65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E29-9544-4EA5-A834-928F4660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83A-CE2A-4F43-9123-459CA81C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B31-97F9-46BB-B519-3246FD2C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B56-E086-4858-8134-87C0270A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C4E-8052-4F91-9BF3-5EC56371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59C-A4AF-42AF-9C10-EABB9FC0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67B-0D1D-496E-81FE-13C89F2D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1E0-A7FA-4CCB-8ABE-E7FF58CA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C22-6D1B-4DF0-B4CB-5FD53054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C24-C8B8-43AA-ABBE-28FACDA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54A-113B-4092-827A-31F83543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EC4-C7DB-42BF-B454-4091E0DF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61A12-4521-4226-B473-F2B2F73591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