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19931"/>
        <c:axId val="50808774"/>
      </c:barChart>
      <c:catAx>
        <c:axId val="74199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08774"/>
        <c:crosses val="autoZero"/>
        <c:auto val="1"/>
        <c:lblAlgn val="ctr"/>
        <c:lblOffset val="100"/>
        <c:noMultiLvlLbl val="0"/>
      </c:catAx>
      <c:valAx>
        <c:axId val="508087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99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88E5-7AE2-4E27-9EA6-1629A0CF8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532F-2C07-4AC3-906F-B98E5561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5E19-6FD1-41B4-B566-187A94C14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75C0-6A0D-4FC9-B618-1CBC47D36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0C21-912A-4EE3-8439-E3243E4D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592C-01D4-4547-8AE4-AE1C4F26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5293-273D-4E68-A834-B74941A3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ADD8-773B-40FC-910D-C1DC418B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778F-8549-4EE6-BE4E-C8E15DBE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DDFF-DE48-4331-B621-767B4CD1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9A88-8A11-4871-8A7B-4FDB0764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3688-627B-41DD-97E5-9217C8CC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154EDC-A9B4-4210-B3DC-67F8674FE7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