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89169"/>
        <c:axId val="55594239"/>
      </c:barChart>
      <c:catAx>
        <c:axId val="13589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94239"/>
        <c:crosses val="autoZero"/>
        <c:auto val="1"/>
        <c:lblAlgn val="ctr"/>
        <c:lblOffset val="100"/>
        <c:noMultiLvlLbl val="0"/>
      </c:catAx>
      <c:valAx>
        <c:axId val="55594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89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817-B84F-431C-B110-5B3F6C82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2EC-045A-4313-AB9F-803655FE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C67-0F2B-41EF-BC6A-A90B5F71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D4E-2064-48B5-9D5B-1DEC016B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D31-C31C-40BB-A34F-63A8BEF1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F91-DF3B-43AB-A28C-EAEAED87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3CD-8227-4DEA-816F-85029884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6DB-833A-4631-978A-9469E1FC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E5E-DC5B-4D0B-99AF-2D771278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0F7-3BAF-4512-B474-500DB79C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498-F552-47F8-A6A2-C037EB7D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66E-459E-41EA-B8CD-FB0D1EF2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04F9D-FCAA-44E6-9869-BA4C586233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