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03479"/>
        <c:axId val="22305116"/>
      </c:barChart>
      <c:catAx>
        <c:axId val="11503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05116"/>
        <c:crosses val="autoZero"/>
        <c:auto val="1"/>
        <c:lblAlgn val="ctr"/>
        <c:lblOffset val="100"/>
        <c:noMultiLvlLbl val="0"/>
      </c:catAx>
      <c:valAx>
        <c:axId val="22305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03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761-68AF-4DD6-AE37-3921F07B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C5F-7DB3-43D6-A7E5-E932B18E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C30-4C73-43B9-A8CA-56746FE9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109-0535-441E-83AF-F21F543C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C57-9906-4A0E-808D-E6B5A3E1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C56-6ED6-445A-8D06-6CCC5803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6DF-5114-4844-AB64-28D5BFE6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37F-BF84-425B-BC13-F54E9B9F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CE5-94FD-4156-B242-E344A102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F66-4172-4EA1-AFB2-D8E33322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A0A-4B34-4998-8A52-6F7106AA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A31-B8F3-4BD1-BB77-5CD4111F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7AD72-874F-4347-8FDD-6219BE28FD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