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45138"/>
        <c:axId val="71321172"/>
      </c:barChart>
      <c:catAx>
        <c:axId val="704451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21172"/>
        <c:crosses val="autoZero"/>
        <c:auto val="1"/>
        <c:lblAlgn val="ctr"/>
        <c:lblOffset val="100"/>
        <c:noMultiLvlLbl val="0"/>
      </c:catAx>
      <c:valAx>
        <c:axId val="713211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451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096-3F38-417C-935E-EB4291DA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DAE-A167-437F-A024-DEFC792F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D3BB-1947-46F8-81E8-3ECC09E8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D4B9-A5E6-4319-A5F7-7E686255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DF5A-598F-4BF2-A02F-FC1C976A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06ED-636D-4321-8E2B-71B73FCF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5024-6DED-4D99-8D8E-2EEF3EBE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EC6A-AA60-46D5-9087-69E30F2A2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2C42-34C1-4290-9CAA-89308C7F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299-2EA6-4D9E-8528-129A028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33B-227E-40EA-A727-9FDD8180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D686-06A8-400B-801C-9BBEF650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425A5-6227-4AA8-80B5-52470AE40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