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10514"/>
        <c:axId val="62148620"/>
      </c:barChart>
      <c:catAx>
        <c:axId val="34610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8620"/>
        <c:crosses val="autoZero"/>
        <c:auto val="1"/>
        <c:lblAlgn val="ctr"/>
        <c:lblOffset val="100"/>
        <c:noMultiLvlLbl val="0"/>
      </c:catAx>
      <c:valAx>
        <c:axId val="62148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10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99D-4528-4ABB-83CF-4212A205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A3C-6945-43DC-9243-E67392F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0F5-F959-4CD5-A456-CFBC1AE0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C20-61D2-4EB4-B4E1-E3E7206E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473-490D-4759-9A50-69DB5A1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A2D-0862-49A1-B8B3-71DD0A4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2C5-5079-4B0B-B0A6-C5FAFED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D20-3C58-417C-882B-0DCF368B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5F0-B404-4DDF-B3C3-13C68F95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F12-6EFD-4F4C-B5A4-FF01C2E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A65-8D0B-4991-9D65-2FC5007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A58-B2F3-47AE-B9BD-30AF50B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A481-108C-4A01-915F-8E7C00309A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