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5182"/>
        <c:axId val="39215394"/>
      </c:barChart>
      <c:catAx>
        <c:axId val="5365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5394"/>
        <c:crosses val="autoZero"/>
        <c:auto val="1"/>
        <c:lblAlgn val="ctr"/>
        <c:lblOffset val="100"/>
        <c:noMultiLvlLbl val="0"/>
      </c:catAx>
      <c:valAx>
        <c:axId val="39215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B80-A84C-495C-9BE1-1D2AA39E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951-1C21-4F53-BBA0-F1C6711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CA5-F5F2-4917-B81C-C3C1C2B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504-BB18-4FDC-92D0-A1A8A6AE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2CF-29D6-4E83-A578-3947FDC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E48-5D02-46D2-AF1B-19A3B66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808-9432-4B6A-8554-78276C9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940-1506-4F8A-98F5-5638771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52B-FB06-46B0-B743-5651FB7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CFF-6487-441D-80EC-18C7BE5D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5DC-E1CB-48A3-B9DC-CFC057E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01E-8492-495A-9B6A-63C354D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7B388-A829-4782-BCBA-B88622874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